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move the slide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oefler Tex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What thinking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go to the coke website...classic!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pen Happiness” 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irst three minutes of “Growing up Online” </a:t>
            </a:r>
            <a:endParaRPr b="0" lang="en-US" sz="2200" spc="-1" strike="noStrike">
              <a:solidFill>
                <a:srgbClr val="000000"/>
              </a:solidFill>
              <a:latin typeface="Hoefler Tex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buClr>
                <a:srgbClr val="4b4b4b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628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9583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2607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56276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712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0720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3251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742760" indent="-53712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160360" indent="-53676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160360" indent="-53676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628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9583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2607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56276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86960" y="1981080"/>
            <a:ext cx="527076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86960" y="5308560"/>
            <a:ext cx="527076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b4b4b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b4b4b"/>
              </a:buClr>
              <a:buFont typeface="Hoefler Tex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b4b4b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595650"/>
              </a:buClr>
              <a:buFont typeface="Hoefler Tex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46920" y="2768400"/>
            <a:ext cx="5270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38844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65628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9583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26072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1562760" indent="-388440">
              <a:spcBef>
                <a:spcPts val="28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1562760" indent="-388440">
              <a:spcBef>
                <a:spcPts val="28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787320" y="1257480"/>
            <a:ext cx="11430000" cy="723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516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097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3" marL="1854360" indent="-57168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4" marL="2298600" indent="-571320">
              <a:spcBef>
                <a:spcPts val="4201"/>
              </a:spcBef>
              <a:buClr>
                <a:srgbClr val="4b4b4b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5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6" marL="2298600" indent="-571320">
              <a:spcBef>
                <a:spcPts val="4201"/>
              </a:spcBef>
              <a:buClr>
                <a:srgbClr val="595650"/>
              </a:buClr>
              <a:buSzPct val="124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eachertube.com/video/persuasive-appeals-ethos-logos-pathos-41007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1f5b5a"/>
                </a:solidFill>
                <a:latin typeface="Baskerville"/>
              </a:rPr>
              <a:t>Persuasive Appeals</a:t>
            </a:r>
            <a:br>
              <a:rPr sz="7800"/>
            </a:br>
            <a:endParaRPr b="0" lang="en-US" sz="7800" spc="-1" strike="noStrike">
              <a:solidFill>
                <a:srgbClr val="1f5b5a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b4b4b"/>
                </a:solidFill>
                <a:latin typeface="Hoefler Text"/>
              </a:rPr>
              <a:t>Introducing the concepts of Ethos, Logos &amp; Pathos</a:t>
            </a:r>
            <a:endParaRPr b="0" lang="en-US" sz="5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Ethics (Eth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87320" y="2565000"/>
            <a:ext cx="1143000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542880" indent="-5428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thics (ethos) means convincing by the character of the author. We tend to believe people whom we respect (or that show respect to us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42880" indent="-5428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ethics is used to convince readers that the author is being fair and honest and well informed so that readers will trust values and intention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64800" indent="-54252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thical appeals avoid the use of negatively charged/loaded word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558720" y="546120"/>
            <a:ext cx="11874600" cy="83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977760" y="533520"/>
            <a:ext cx="11290320" cy="86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Emotions (Path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497160" indent="-497160">
              <a:lnSpc>
                <a:spcPct val="90000"/>
              </a:lnSpc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 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ing via pathos is persuading by appealing to the reader’s emotions. A carefully reasoned argument can be strengthened by an emotional appeal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97160" indent="-497160">
              <a:lnSpc>
                <a:spcPct val="90000"/>
              </a:lnSpc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scription or narration often from a persons own experience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497160" indent="-497160">
              <a:lnSpc>
                <a:spcPct val="90000"/>
              </a:lnSpc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 author’s point of view puts the reader in a certain frame of mind through the evidence itself, but also through carefully chosen words with positive or negative connotations that can sway readers’ emotion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1079640" y="812880"/>
            <a:ext cx="10836000" cy="81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Go back to your quick write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hat types of persuasive appeals did you use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Were they effective? Why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s there a type of appeal you could have used, but didn’t?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For Next Time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Bring texts that your team believes will support the teaching of Ethos, Logos, Patho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? Define please...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531360" indent="-53136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n earnest request for something important (an appeal for help)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31360" indent="-53136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 formal request in court for a decision to be changed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31360" indent="-53136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 quality that makes people like someth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31360" indent="-53136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Hoefler Text"/>
              </a:rPr>
              <a:t>The power or ability to attract, interest, amuse, or stimulate the mind or emo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rgument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uthors purposefully do certain things to persuade us to believe what they are saying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hey use all the tools at their disposal to attract our interest, amuse us, entertain us, and/or stimulate our minds or emotion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26053"/>
                </a:solidFill>
                <a:latin typeface="Baskerville"/>
              </a:rPr>
              <a:t>Persuasion: Quite frankly...we do this all the time</a:t>
            </a:r>
            <a:endParaRPr b="0" lang="en-US" sz="66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n your notes, take a few moments to write about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Hoefler Text"/>
              </a:rPr>
              <a:t>a time recently when you tried to persuade someone to do something 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60520" indent="-57168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or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1015920" indent="-57132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4b4b"/>
                </a:solidFill>
                <a:latin typeface="Hoefler Text"/>
              </a:rPr>
              <a:t>when someone tried to persuade you to do someth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"/>
          <p:cNvSpPr/>
          <p:nvPr/>
        </p:nvSpPr>
        <p:spPr>
          <a:xfrm>
            <a:off x="787320" y="4641840"/>
            <a:ext cx="114300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oefler Text"/>
                <a:hlinkClick r:id="rId1"/>
              </a:rPr>
              <a:t>http://www.teachertube.com/video/persuasive-appeals-ethos-logos-pathos-41007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2158920" y="1739880"/>
            <a:ext cx="8674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95650"/>
                </a:solidFill>
                <a:latin typeface="Hoefler Text"/>
              </a:rPr>
              <a:t>Let’s take a closer look at appeals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Persuasive Appeals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Reason (logos) are the proof, or apparent proof of the words themselves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Emotion (pathos) - putting the audience into a certain frame of mind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71680" indent="-57168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Ethics (ethos) - </a:t>
            </a:r>
            <a:r>
              <a:rPr b="0" lang="en-US" sz="3600" spc="-1" strike="noStrike">
                <a:solidFill>
                  <a:srgbClr val="4d4d4d"/>
                </a:solidFill>
                <a:latin typeface="Hoefler Text"/>
              </a:rPr>
              <a:t>The personal</a:t>
            </a: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 character of the speaker.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Reason (Log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2374560"/>
            <a:ext cx="1143000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560160" indent="-56016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Reason (logos) - support of claims with concrete, specific data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marL="560160" indent="-56016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ppeals to Reason can be inductive or deductiv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95400" indent="-55980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Inductive means starting with evidence which leads to a generalizatio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1" marL="995400" indent="-55980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ductive means starting with a general observations and moving to specific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626053"/>
                </a:solidFill>
                <a:latin typeface="Baskerville"/>
              </a:rPr>
              <a:t>Appeal to Reason (Logos)</a:t>
            </a:r>
            <a:endParaRPr b="0" lang="en-US" sz="7800" spc="-1" strike="noStrike">
              <a:solidFill>
                <a:srgbClr val="626053"/>
              </a:solidFill>
              <a:latin typeface="Baskervill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7320" y="2120400"/>
            <a:ext cx="11430000" cy="709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lvl="1" marL="1005480" indent="-565560">
              <a:spcBef>
                <a:spcPts val="2801"/>
              </a:spcBef>
              <a:buSzPct val="12755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Typically supported by evidence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Facts - can be proven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xpert opinion or quota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Definitions - statements of meaning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Statistics - offer scientific support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Examples - powerful illustration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  <a:p>
            <a:pPr lvl="2" marL="1445760" indent="-565920">
              <a:spcBef>
                <a:spcPts val="2801"/>
              </a:spcBef>
              <a:buSzPct val="1275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Hoefler Text"/>
              </a:rPr>
              <a:t>Anecdotes - incidents based on personal experiences</a:t>
            </a:r>
            <a:endParaRPr b="0" lang="en-US" sz="3600" spc="-1" strike="noStrike">
              <a:solidFill>
                <a:srgbClr val="4b4b4b"/>
              </a:solidFill>
              <a:latin typeface="Hoefler Tex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1219320" y="1092240"/>
            <a:ext cx="10566360" cy="723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elle CC</dc:creator>
  <dc:description/>
  <dc:language>en-US</dc:language>
  <cp:lastModifiedBy>Michelle CC</cp:lastModifiedBy>
  <dcterms:modified xsi:type="dcterms:W3CDTF">2015-02-22T19:17:39Z</dcterms:modified>
  <cp:revision>5</cp:revision>
  <dc:subject/>
  <dc:title>Persuasive Appeals</dc:title>
</cp:coreProperties>
</file>